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6F16-566A-4F58-AA88-9E89CECEF4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FE37-1E44-43C1-9903-8B9BFEE3C8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7C92-498F-4C04-B335-FF2D79AD72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3A1F-68BF-4E75-8CED-9B484191E3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DDD-06DA-4511-91A4-2D65F152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171-A3EE-4894-BA66-C8F4B8DD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941-857B-4B31-8E89-0D20D192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47F-FCD4-46E9-8CFE-8E2FF79E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BE6-9536-4616-9E23-227B04DA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971-5918-4CC0-A4E7-B6BAFC37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F04-0A6C-4084-9953-4C1164C5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409-F709-4B3A-8E9D-B42832B5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DC5-2A26-4A38-BB66-DE00254C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9E0-3A11-4B95-8ECB-25792753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932-69B4-4370-A0D1-CACB75C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462-DCD9-45C5-AF27-16457EE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BA2D-CB59-47A5-A182-12806E4D83E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6001-4522-49F3-B5E5-F31F3DD40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6" descr=""/>
          <p:cNvPicPr/>
          <p:nvPr/>
        </p:nvPicPr>
        <p:blipFill>
          <a:blip r:embed="rId2"/>
          <a:stretch/>
        </p:blipFill>
        <p:spPr>
          <a:xfrm>
            <a:off x="0" y="-3240"/>
            <a:ext cx="8515440" cy="8384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8218440" y="6656400"/>
            <a:ext cx="225360" cy="46080"/>
          </a:xfrm>
          <a:prstGeom prst="rect">
            <a:avLst/>
          </a:prstGeom>
          <a:solidFill>
            <a:srgbClr val="00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0"/>
          <p:cNvSpPr/>
          <p:nvPr/>
        </p:nvSpPr>
        <p:spPr>
          <a:xfrm>
            <a:off x="463680" y="6356520"/>
            <a:ext cx="798012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8147160" y="635652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BC46-3B93-4AE1-9A70-67A4DDDD8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rcRect l="0" t="7335" r="31752" b="29001"/>
          <a:stretch/>
        </p:blipFill>
        <p:spPr>
          <a:xfrm>
            <a:off x="4240080" y="-3240"/>
            <a:ext cx="4903920" cy="68612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324000" y="608040"/>
            <a:ext cx="54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bd"/>
                </a:solidFill>
                <a:latin typeface="Century Gothic"/>
              </a:rPr>
              <a:t>О запуске портфеля проектов «Формирование здорового образа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250920" y="4005360"/>
            <a:ext cx="465912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6bd"/>
                </a:solidFill>
                <a:latin typeface="Century Gothic"/>
                <a:ea typeface="Tahoma"/>
              </a:rPr>
              <a:t>Докладч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Кольцов Всеволод Станиславови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заместитель Губернатора Ханты-Мансийского автономного округа – Югры, куратор портфеля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6bd"/>
                </a:solidFill>
                <a:latin typeface="Century Gothic"/>
              </a:rPr>
              <a:t>Комментир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Каданцев Валерий Алексеевич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председатель Общественного со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при Департаменте здравоохра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Ханты-Мансийского автономного округа – Югр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215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Vida 32 Pro"/>
              </a:rPr>
              <a:t>Портфель проектов «Формирование здорового образа жизн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22680" y="1341360"/>
            <a:ext cx="65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  <a:ea typeface="Vida 32 Pro"/>
              </a:rPr>
              <a:t>ЦЕЛЕВЫЕ ПОКАЗАТЕЛИ 202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3214800" y="915840"/>
            <a:ext cx="50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  <a:ea typeface="Vida 22 Pro"/>
              </a:rPr>
              <a:t>Куратор: Кольцов В.С.      Руководитель: Добровольский А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3"/>
          <p:cNvSpPr/>
          <p:nvPr/>
        </p:nvSpPr>
        <p:spPr>
          <a:xfrm>
            <a:off x="2643120" y="50007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раждан с артериальной гипертензией, контролирующих свое артериальное д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4"/>
          <p:cNvSpPr/>
          <p:nvPr/>
        </p:nvSpPr>
        <p:spPr>
          <a:xfrm>
            <a:off x="357120" y="207180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bd"/>
                </a:solidFill>
                <a:latin typeface="Century Gothic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6443640"/>
            <a:ext cx="7212240" cy="2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fbfbf"/>
                </a:solidFill>
                <a:latin typeface="Century Gothic"/>
                <a:ea typeface="Vida 32 Pro"/>
              </a:rPr>
              <a:t>«Формирование здорового образа жизн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357120" y="300024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bd"/>
                </a:solidFill>
                <a:latin typeface="Century Gothic"/>
              </a:rPr>
              <a:t>27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1"/>
          <p:cNvSpPr/>
          <p:nvPr/>
        </p:nvSpPr>
        <p:spPr>
          <a:xfrm>
            <a:off x="2643120" y="2000160"/>
            <a:ext cx="63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раждан приверженных здоровому образу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3"/>
          <p:cNvSpPr/>
          <p:nvPr/>
        </p:nvSpPr>
        <p:spPr>
          <a:xfrm>
            <a:off x="285840" y="4929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bd"/>
                </a:solidFill>
                <a:latin typeface="Century Gothic"/>
              </a:rPr>
              <a:t>55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6"/>
          <p:cNvSpPr/>
          <p:nvPr/>
        </p:nvSpPr>
        <p:spPr>
          <a:xfrm>
            <a:off x="2643120" y="3143160"/>
            <a:ext cx="6248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требление табака среди взрослого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500040" y="3929040"/>
            <a:ext cx="192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bd"/>
                </a:solidFill>
                <a:latin typeface="Century Gothic"/>
              </a:rPr>
              <a:t>28,4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6"/>
          <p:cNvSpPr/>
          <p:nvPr/>
        </p:nvSpPr>
        <p:spPr>
          <a:xfrm>
            <a:off x="2643120" y="4143240"/>
            <a:ext cx="6248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аспространенность ожи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6443640"/>
            <a:ext cx="7212240" cy="2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fbfbf"/>
                </a:solidFill>
                <a:latin typeface="Century Gothic"/>
                <a:ea typeface="Vida 32 Pro"/>
              </a:rPr>
              <a:t>«Формирование здорового образа жизн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91440" y="1341360"/>
            <a:ext cx="52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  <a:ea typeface="Vida 32 Pro"/>
              </a:rPr>
              <a:t>КЛЮЧЕВЫЕ УЧАС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395280" y="2133720"/>
            <a:ext cx="831996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Vida 32 Pro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Vida 32 Pro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Vida 32 Pro"/>
              </a:rPr>
              <a:t> МЕДИЦИНСКИЕ ОРГАНИЗАЦИИ ХАНТЫ-МАНСИЙСКОГО АВТОНОМНОГО ОКРУГА-ЮГРЫ, ИМЕЮЩИЕ ПРИКРЕПЛЕННОЕ НАС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Vida 32 Pro"/>
              </a:rPr>
              <a:t>БЮДЖЕТНОЕ УЧЕРЕЖДЕНИЕ ХАНТЫ-МАНСИЙСКОГО АВТОНОМНОГО ОКРУГА-ЮГРЫ «ЦЕНТР МЕДИЦИНСКОЙ ПРОФИЛАКТИ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Vida 32 Pro"/>
              </a:rPr>
              <a:t>СОЦИАЛЬНО-ОРИЕНТИРОВАННЫЕ НЕКОМЕРЧЕСКИЕ ОРГАНИЗАЦИИ ХАНТЫ-МАНСИЙСКОГО АВТОНОМНОГО ОКРУГА-Ю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Vida 32 Pro"/>
              </a:rPr>
              <a:t>ДЕПАРТАМЕНТ ЗДРАВООХРАНЕНИЯ ХАНТЫ-МАНСИЙСКОГО АВТОНОМНОГО ОКРУГА-Ю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7215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Vida 32 Pro"/>
              </a:rPr>
              <a:t>Портфель проектов «Формирование здорового образа жизн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880" y="6443640"/>
            <a:ext cx="7212240" cy="2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fbfbf"/>
                </a:solidFill>
                <a:latin typeface="Century Gothic"/>
                <a:ea typeface="Vida 32 Pro"/>
              </a:rPr>
              <a:t>«Формирование здорового образа жизн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14"/>
          <p:cNvSpPr/>
          <p:nvPr/>
        </p:nvSpPr>
        <p:spPr>
          <a:xfrm>
            <a:off x="146160" y="1341360"/>
            <a:ext cx="71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  <a:ea typeface="Vida 32 Pro"/>
              </a:rPr>
              <a:t>ФИНАНСОВАЯ ОБЕСПЕЧ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7215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Vida 32 Pro"/>
              </a:rPr>
              <a:t>Портфель проектов «Формирование здорового образа жизн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2060640"/>
          <a:ext cx="8367840" cy="4281480"/>
        </p:xfrm>
        <a:graphic>
          <a:graphicData uri="http://schemas.openxmlformats.org/drawingml/2006/table">
            <a:tbl>
              <a:tblPr/>
              <a:tblGrid>
                <a:gridCol w="3421080"/>
                <a:gridCol w="1198800"/>
                <a:gridCol w="1214280"/>
                <a:gridCol w="1285920"/>
                <a:gridCol w="1247760"/>
              </a:tblGrid>
              <a:tr h="449280">
                <a:tc>
                  <a:txBody>
                    <a:bodyPr lIns="87120" rIns="87120" tIns="43560" bIns="435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21 - 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" rIns="9000" tIns="9000" bIns="0" anchor="ctr">
                      <a:noAutofit/>
                    </a:bodyPr>
                    <a:p>
                      <a:pPr marL="18252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требность в бюджетном финансировании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6 964</a:t>
                      </a: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6 96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34 8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748</a:t>
                      </a: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Century Gothic"/>
                        </a:rPr>
                        <a:t>Утвержд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marL="179280" indent="36036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едеральны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36036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" rIns="9000" tIns="9000" bIns="0" anchor="ctr">
                      <a:noAutofit/>
                    </a:bodyPr>
                    <a:p>
                      <a:pPr marL="179280" indent="36036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гиональный бюджет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(текущее финансирование                      БУ «Центр медицинской профилактики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6 96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6 96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34  8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48 74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Дефиц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7760">
                <a:tc>
                  <a:txBody>
                    <a:bodyPr lIns="9000" rIns="9000" tIns="9000" bIns="0" anchor="ctr">
                      <a:noAutofit/>
                    </a:bodyPr>
                    <a:p>
                      <a:pPr marL="179280" indent="36036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едеральны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" rIns="9000" tIns="9000" bIns="0" anchor="ctr">
                      <a:noAutofit/>
                    </a:bodyPr>
                    <a:p>
                      <a:pPr marL="179280" indent="36036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гиональны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" rIns="9000" tIns="9000" bIns="0" anchor="ctr">
                      <a:noAutofit/>
                    </a:bodyPr>
                    <a:p>
                      <a:pPr marL="18252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Потребность в привлеченных средствах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35:12Z</dcterms:created>
  <dc:creator>user</dc:creator>
  <dc:description/>
  <dc:language>en-US</dc:language>
  <cp:lastModifiedBy>bil-va</cp:lastModifiedBy>
  <cp:lastPrinted>2018-03-15T12:30:05Z</cp:lastPrinted>
  <dcterms:modified xsi:type="dcterms:W3CDTF">2018-04-23T12:43:43Z</dcterms:modified>
  <cp:revision>2114</cp:revision>
  <dc:subject/>
  <dc:title>Презентация PowerPoint</dc:title>
</cp:coreProperties>
</file>